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8DBA-5D43-4FEC-B0E1-AB8E4F40EC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D40B-FA84-4FEB-8119-B3C3E70948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1FAB-FAFA-4AA3-BF26-44BE5E1B5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бъектом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учреждени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 является микрогруппа (7-12 человек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 участники одного объединения. Фо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реализу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педагогами (кураторами, класс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ями, педагогам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)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торые одновременно  явля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орами  запроса на психологические услу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помощниками в реализации данных услу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24F2-5E12-4757-8561-4B7945FE2A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7FBC-9D0F-411A-BCF8-0B52B4E219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D8FF-AA02-4146-BA29-E68722C3C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61BB-1DBD-420A-8965-C6A21E653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0EA6-F31F-488A-ABD3-EF839348FB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8D08-F5CC-4CFD-B46C-CC2CEF8330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45D6-EDAD-48E5-8BC6-8557B58D82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1F7E-0CAA-44BF-9F64-5063079AC2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65CF-C491-425F-A75A-65E84C71B6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E6C9-29B7-42BC-B817-4596ED6273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ой цел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ДД и Ю «Факел»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 процес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зации личности, обеспечиваю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монизацию отношений ребен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, развитие творческого потенци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ого и детского коллектив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реждения, выявление перспекти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я вариатив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2CE3-A26B-4CCD-8E7E-FE2E946A24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1F86-DCB7-4A6F-AD16-FAD43A408D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A640-427B-434D-A7B7-D18E0EC236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м направл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заимодействие с участ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ов, реализуемых ДДиЮ «Факел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оциального успеха «Перемен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 доверия «Бере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– де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4B75-F7C4-462A-9683-DB29868875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AD43-541B-4A13-9EBC-0EF63BA222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ые данные показали, чт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52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кольников вначале работы  имели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овышенный уровень тревож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9C84-EFE1-4510-837A-36078D75C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F817-0857-48B0-B08B-1D7D3E1EE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5253-27CB-4962-9F99-C90344DAE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E64E-4541-4817-B443-3046FE069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5E94-F938-45E1-8DEE-BB45CD6112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свещ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ление учащихся по проблемам общения, развития личности, полового воспит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просветительская работа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B58F-A431-458D-A1D8-1AEE5DCFFD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взаимодей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7A8A-C152-4D60-A495-90799E7B7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7CD5-BB87-442E-9795-CBCF94B71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B9C-6934-4D80-9F41-AD78CEF9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12E-77B3-4EB8-AF22-57E43257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E4F-581D-49F2-A6F7-85183EAF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6FE-014E-43D2-B08D-2722AF75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A907-959E-4447-8726-528E7292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0E04-BF25-408D-AD0B-1B178211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D577-E470-44BB-96B3-5B5AB01A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4688-3567-4DF5-B271-56BAE224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5973-7910-46B6-94E9-CF3A20F8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7802-291C-4871-ACE4-CB05AB2F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8983-13D8-4653-9C71-272E58EF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AA9-4250-488D-A1B4-B177BDC5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8F40-4CBC-4C45-AED5-05384018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7F6D-A147-4F7E-B18A-96A58104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CFC1-A8EE-4E8C-83EB-1FE57E60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13E4-A33E-4D21-923C-8AD884F1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5DF8-6AC4-4227-B6FD-6D1EAEB4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ABE-C97F-4DD6-A048-AE37E7B9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684-2971-4E72-B1CD-81E50FF1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D7B-D0A0-40D4-834E-BDCE91CB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B50-9B91-4260-9784-1B004F6B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15B5-CA41-4001-B53B-8B688219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942-E3A3-4C59-B4DF-5BAB3E9E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EC1-D42D-43D2-86AE-96D5DF4D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9FCB-363D-47D2-85D5-CF9538B05E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7E09-62E5-45A1-A425-9526A9D7E90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2664000" cy="1497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ым объектом психологическ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провождения в учреждени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 является микрогруппа (7-12 человек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правило участники одного объединения. Форм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реализуют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местно с педагогами (кураторами, классны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оводителями, педагогам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)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которые одновременно  явля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ициаторами  запроса на психологические услуг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помощниками в реализации данных услуг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Diagram 6"/>
          <p:cNvGrpSpPr/>
          <p:nvPr/>
        </p:nvGrpSpPr>
        <p:grpSpPr>
          <a:xfrm>
            <a:off x="2480760" y="1309320"/>
            <a:ext cx="4688640" cy="5211720"/>
            <a:chOff x="2480760" y="1309320"/>
            <a:chExt cx="4688640" cy="5211720"/>
          </a:xfrm>
        </p:grpSpPr>
        <p:sp>
          <p:nvSpPr>
            <p:cNvPr id="141" name="_s1028"/>
            <p:cNvSpPr/>
            <p:nvPr/>
          </p:nvSpPr>
          <p:spPr>
            <a:xfrm flipH="1" flipV="1">
              <a:off x="3696840" y="3263760"/>
              <a:ext cx="564480" cy="32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_s1029"/>
            <p:cNvSpPr/>
            <p:nvPr/>
          </p:nvSpPr>
          <p:spPr>
            <a:xfrm>
              <a:off x="2480760" y="2286720"/>
              <a:ext cx="1302840" cy="1302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детей «группы риска»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_s1030"/>
            <p:cNvSpPr/>
            <p:nvPr/>
          </p:nvSpPr>
          <p:spPr>
            <a:xfrm flipH="1">
              <a:off x="369684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1031"/>
            <p:cNvSpPr/>
            <p:nvPr/>
          </p:nvSpPr>
          <p:spPr>
            <a:xfrm>
              <a:off x="2481480" y="4241520"/>
              <a:ext cx="13028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общеобразовательных учрежд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_s1032"/>
            <p:cNvSpPr/>
            <p:nvPr/>
          </p:nvSpPr>
          <p:spPr>
            <a:xfrm>
              <a:off x="4825080" y="456660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_s1033"/>
            <p:cNvSpPr/>
            <p:nvPr/>
          </p:nvSpPr>
          <p:spPr>
            <a:xfrm>
              <a:off x="4174200" y="5218200"/>
              <a:ext cx="13028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цесса повышения профессиональной компетенции педагог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_s1034"/>
            <p:cNvSpPr/>
            <p:nvPr/>
          </p:nvSpPr>
          <p:spPr>
            <a:xfrm>
              <a:off x="538920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_s1035"/>
            <p:cNvSpPr/>
            <p:nvPr/>
          </p:nvSpPr>
          <p:spPr>
            <a:xfrm>
              <a:off x="5866560" y="4240440"/>
              <a:ext cx="1302840" cy="1302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ект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 flipV="1">
              <a:off x="5389200" y="326376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_s1037"/>
            <p:cNvSpPr/>
            <p:nvPr/>
          </p:nvSpPr>
          <p:spPr>
            <a:xfrm>
              <a:off x="5866200" y="2286000"/>
              <a:ext cx="130284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творческих объедин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_s1038"/>
            <p:cNvSpPr/>
            <p:nvPr/>
          </p:nvSpPr>
          <p:spPr>
            <a:xfrm flipV="1">
              <a:off x="4825080" y="261216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_s1039"/>
            <p:cNvSpPr/>
            <p:nvPr/>
          </p:nvSpPr>
          <p:spPr>
            <a:xfrm>
              <a:off x="4173840" y="1309320"/>
              <a:ext cx="13028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ающих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4173840" y="3264120"/>
              <a:ext cx="1302840" cy="1302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Психологическое 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" name="Rectangle 21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0000" y="2060640"/>
          <a:ext cx="7772400" cy="4294080"/>
        </p:xfrm>
        <a:graphic>
          <a:graphicData uri="http://schemas.openxmlformats.org/drawingml/2006/table">
            <a:tbl>
              <a:tblPr/>
              <a:tblGrid>
                <a:gridCol w="379440"/>
                <a:gridCol w="2919600"/>
                <a:gridCol w="44733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олл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сопров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ьная студия «Изю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 родителей, семейные консультации, празд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звивающе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я, консультации, диагностика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ия «Фитодизай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«Аэроб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изучения англий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группы хоре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диагностика, беседы с родителями по заявленным темам, показательные вы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11280" y="1844640"/>
            <a:ext cx="75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по методик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«Лесенка» В.Г. Щу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явление представлений ребенка об отношениях к нему других людей, выявление его             самооценки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5640" y="3213000"/>
          <a:ext cx="6773760" cy="2567160"/>
        </p:xfrm>
        <a:graphic>
          <a:graphicData uri="http://schemas.openxmlformats.org/drawingml/2006/table">
            <a:tbl>
              <a:tblPr/>
              <a:tblGrid>
                <a:gridCol w="1428840"/>
                <a:gridCol w="1541520"/>
                <a:gridCol w="728640"/>
                <a:gridCol w="826920"/>
                <a:gridCol w="1079640"/>
                <a:gridCol w="1168200"/>
              </a:tblGrid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емь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вер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воспит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row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в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кой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275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76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277"/>
          <p:cNvSpPr/>
          <p:nvPr/>
        </p:nvSpPr>
        <p:spPr>
          <a:xfrm>
            <a:off x="978120" y="5877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вод: личная самооценка адекват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пытывает  незащищенность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35320" y="198900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нные по методике «ЦТО»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ветовой тест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гностика эмо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2781360"/>
          <a:ext cx="7200720" cy="1873080"/>
        </p:xfrm>
        <a:graphic>
          <a:graphicData uri="http://schemas.openxmlformats.org/drawingml/2006/table">
            <a:tbl>
              <a:tblPr/>
              <a:tblGrid>
                <a:gridCol w="1501560"/>
                <a:gridCol w="1341720"/>
                <a:gridCol w="1600200"/>
                <a:gridCol w="1417320"/>
                <a:gridCol w="13399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н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инимае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и часть свер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нне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69"/>
          <p:cNvSpPr/>
          <p:nvPr/>
        </p:nvSpPr>
        <p:spPr>
          <a:xfrm>
            <a:off x="179280" y="4869000"/>
            <a:ext cx="8137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нные могут меняться в зависимости от эмоционального состояния ребенк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Необходимо понять и выслушать ребен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В момент проблемного поведения переключи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имание на другое занят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8964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64200" y="1916280"/>
            <a:ext cx="354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2017800"/>
          <a:ext cx="8486640" cy="5486400"/>
        </p:xfrm>
        <a:graphic>
          <a:graphicData uri="http://schemas.openxmlformats.org/drawingml/2006/table">
            <a:tbl>
              <a:tblPr/>
              <a:tblGrid>
                <a:gridCol w="585720"/>
                <a:gridCol w="3219480"/>
                <a:gridCol w="2193840"/>
                <a:gridCol w="1609920"/>
                <a:gridCol w="87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ев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-во уч-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психологов и педагогов «Психофизиологические особенности детей дошкольного и школьного возрас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знаний об особенностях детей и подрост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пециалисты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социальных педагогов «Формы эффективного слуша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навыков эффективного слуш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ц. педагоги ОУ и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«Конфликты в педагогической среде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нформирование о способах выхода из конфликтных ситуаций в системе «Педагог - ребенок», «Педагог - педагог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дагоги школы №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сновной цел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сихологическо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провождения в ДД и Ю «Факел» являе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ая помощь процесс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циализации личности, обеспечивающа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монизацию отношений ребенка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а, развитие творческого потенциал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дагогического и детского коллективо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реждения, выявление перспектив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тия вариативного образ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4000" y="1413000"/>
          <a:ext cx="8559720" cy="5456160"/>
        </p:xfrm>
        <a:graphic>
          <a:graphicData uri="http://schemas.openxmlformats.org/drawingml/2006/table">
            <a:tbl>
              <a:tblPr/>
              <a:tblGrid>
                <a:gridCol w="590400"/>
                <a:gridCol w="3246480"/>
                <a:gridCol w="2214360"/>
                <a:gridCol w="1624320"/>
                <a:gridCol w="88416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уч-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ирование толерантных отношений среди подростков через развитие навыков эффективного общ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циаль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Модели изменения поведения в деятельности по профилактике ПА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личност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, работающие в данном направл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Профилактика девиантного поведения и методы работы с девиантными подростками (на основе опыта работы учреждения)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о-ориентированный семинар-тренинг «Роль психолога в профилактической деятельности ОУ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своей роли в профилактической деятельности ОУ каждым участником семинара-трен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ы и методы профилактической работы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офессиональной компетент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дельным направлени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взаимодействие с участника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ов, реализуемых ДДиЮ «Факел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кола социального успеха «Перемен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лефон доверия «Берег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ти – детя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quare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Object 5"/>
          <p:cNvGraphicFramePr/>
          <p:nvPr/>
        </p:nvGraphicFramePr>
        <p:xfrm>
          <a:off x="250920" y="404640"/>
          <a:ext cx="889308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04640"/>
                    <a:ext cx="8893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WordArt 6"/>
          <p:cNvSpPr txBox="1"/>
          <p:nvPr/>
        </p:nvSpPr>
        <p:spPr>
          <a:xfrm>
            <a:off x="2843280" y="476280"/>
            <a:ext cx="622440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Социальные проекты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как форма интеграции детей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в образовательную среду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971640" y="2421000"/>
            <a:ext cx="7704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68360" y="3141720"/>
            <a:ext cx="8675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50920" y="5013360"/>
            <a:ext cx="3889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тское объедин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ладшего школьн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зрас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-10 лет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5" name="Object 10"/>
          <p:cNvGraphicFramePr/>
          <p:nvPr/>
        </p:nvGraphicFramePr>
        <p:xfrm>
          <a:off x="3924360" y="2654280"/>
          <a:ext cx="4761000" cy="420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2654280"/>
                    <a:ext cx="47610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1"/>
          <p:cNvSpPr/>
          <p:nvPr/>
        </p:nvSpPr>
        <p:spPr>
          <a:xfrm>
            <a:off x="324000" y="1916280"/>
            <a:ext cx="8424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Школа социального успех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«Переменка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втор–составител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ординатор проек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кирневская Елена Никола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варительные данные показали, чт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52%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школьников вначале работы  имели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овышенный уровень тревожност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1280" y="2060640"/>
          <a:ext cx="8053200" cy="45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805320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Просвещ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знакомление учащихся по проблемам общения, развития личности, полового воспит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онно-просветительская работа с родител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Профессиональное взаимодейств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4:30:54Z</dcterms:created>
  <dc:creator>user</dc:creator>
  <dc:description/>
  <dc:language>en-US</dc:language>
  <cp:lastModifiedBy>LEGION</cp:lastModifiedBy>
  <dcterms:modified xsi:type="dcterms:W3CDTF">2014-11-12T09:43:13Z</dcterms:modified>
  <cp:revision>14</cp:revision>
  <dc:subject/>
  <dc:title>Слайд 1</dc:title>
</cp:coreProperties>
</file>